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BD2-F124-47B5-BDD0-71B9ACB7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4CD-7DC0-44C8-AFFF-5F7C5CAA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48B-DA53-40BF-AFAB-A570C543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040-9A70-4C16-8D76-67EF2BF9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10E-709E-4A6F-B767-3B868373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E3F-E571-46FE-A8AD-CDE976AF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999-0012-4140-9D77-0AE19735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A87-E107-49D7-A57C-16E51029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A2A-AB7F-4032-A1B7-F7CAD7F1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3EE-8F0F-4E77-BEA0-CE99E0D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B0E-4886-4C34-817F-C18DB35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03A-5C0B-45C5-B74E-5F02F66D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270C-1AEB-421B-82D4-BECAF046D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ule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de1a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7"/>
            <a:endCxn id="4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6"/>
            <a:endCxn id="4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7" idx="7"/>
            <a:endCxn id="45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7"/>
            <a:endCxn id="45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5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6"/>
            <a:endCxn id="45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blication is linked to the journal in which it 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9" idx="0"/>
            <a:endCxn id="60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ypes of publications in Fly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gsaw 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it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l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really work for e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per published in a book published in a series of boo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0"/>
            <a:endCxn id="68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pub relationships in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1"/>
            <a:endCxn id="71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2" idx="3"/>
            <a:endCxn id="71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60199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 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2" idx="0"/>
            <a:endCxn id="73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010280" y="2666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3"/>
            <a:endCxn id="71" idx="1"/>
          </p:cNvCxnSpPr>
          <p:nvPr/>
        </p:nvCxnSpPr>
        <p:spPr>
          <a:xfrm>
            <a:off x="4723920" y="5790960"/>
            <a:ext cx="158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480060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any type of publication (not just journal -&gt; paper) to b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ide: its recur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16:46:27Z</dcterms:created>
  <dc:creator>William M. Gelbart</dc:creator>
  <dc:description/>
  <dc:language>en-US</dc:language>
  <cp:lastModifiedBy>William M. Gelbart</cp:lastModifiedBy>
  <dcterms:modified xsi:type="dcterms:W3CDTF">2003-09-14T22:24:53Z</dcterms:modified>
  <cp:revision>4</cp:revision>
  <dc:subject/>
  <dc:title>chado</dc:title>
</cp:coreProperties>
</file>